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C963-2576-4428-9CA3-745B0EFC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D4B3-2AD9-4043-A61A-74619C58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75A4-6DDE-4DAC-9533-F8D74CDB4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EB57-7752-42E4-BA8F-68BD575A8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C656-B8D3-472F-A9F7-7137F883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21AA-0996-470C-A782-3BF42DD6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D1B7-820C-4719-A1B3-7B64B4D7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FDE5-F008-4186-9CED-B08918E9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79AB-2557-4883-AE4B-F42E7B11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673E-3CFC-4D05-BEAA-AC547B05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3D78-587D-441C-AC45-84916F9C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B0F0-88A0-4B22-9786-7E65D161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F427-3A74-4E92-9BF7-DA3C16312A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8360" y="549360"/>
            <a:ext cx="828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etwork Communica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1844640"/>
            <a:ext cx="432108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y the end of this session, you w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derstand the term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arn of the different ways we can communicate on a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now how we connect to the Internet and what is requ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508720" y="2349360"/>
            <a:ext cx="2950920" cy="25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360" y="549360"/>
            <a:ext cx="828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etwork Communica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989000"/>
            <a:ext cx="432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dwidth tells us the rate at which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n be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transmit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own the communications line in a given period of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03640" y="2637000"/>
            <a:ext cx="331164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03640" y="4292640"/>
            <a:ext cx="3311640" cy="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48360" y="28526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48360" y="4581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 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55640" y="5589720"/>
            <a:ext cx="763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Usually measured in Bits Per Second (bps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549360"/>
            <a:ext cx="828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etwork Communica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91628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hig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 bandwidth, the 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quicker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will flow along the lin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87640" y="3068640"/>
            <a:ext cx="57610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loaded quic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media is downloaded fa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nection is fa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network traff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icker respons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3500280"/>
            <a:ext cx="237636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549360"/>
            <a:ext cx="828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etwork Communica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1916280"/>
            <a:ext cx="835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a number of 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connection typ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vailable to us when we want to access the services from the Internet… Each one has a different BANDWID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3716280"/>
            <a:ext cx="7921440" cy="2155680"/>
          </a:xfrm>
          <a:prstGeom prst="rect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entury Gothic"/>
              </a:rPr>
              <a:t>PSTN : Public Switched Telephone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Uses traditional telephone system to allow access to the Inter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Low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Dial Up Conn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549360"/>
            <a:ext cx="828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etwork Communica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1844640"/>
            <a:ext cx="7921440" cy="1850760"/>
          </a:xfrm>
          <a:prstGeom prst="rect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entury Gothic"/>
              </a:rPr>
              <a:t>ISDN : Integrated Services Digital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Supports Videoconferencing, faxes and voice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Users still must dial 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High speed digital transf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4206960"/>
            <a:ext cx="7921440" cy="1850760"/>
          </a:xfrm>
          <a:prstGeom prst="rect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entury Gothic"/>
              </a:rPr>
              <a:t>ADSL : Asymmetric Digital Subscriber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Is known as ‘Broadband.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Is permanently switched on, no need for dial 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Has a high bandwid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549360"/>
            <a:ext cx="828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nnecting to The Interne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1844640"/>
            <a:ext cx="7921440" cy="4353120"/>
          </a:xfrm>
          <a:prstGeom prst="rect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entury Gothic"/>
              </a:rPr>
              <a:t>Single users can connect to the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entury Gothic"/>
              </a:rPr>
              <a:t>Hardware and Software requ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entury Gothic"/>
              </a:rPr>
              <a:t>As well as a PC – Ne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entury Gothic"/>
              </a:rPr>
              <a:t> </a:t>
            </a:r>
            <a:r>
              <a:rPr b="1" lang="en-GB" sz="2400" spc="-1" strike="noStrike">
                <a:solidFill>
                  <a:srgbClr val="ff6600"/>
                </a:solidFill>
                <a:latin typeface="Century Gothic"/>
              </a:rPr>
              <a:t>Internet Service Provi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entury Gothic"/>
              </a:rPr>
              <a:t> </a:t>
            </a:r>
            <a:r>
              <a:rPr b="1" lang="en-GB" sz="2400" spc="-1" strike="noStrike">
                <a:solidFill>
                  <a:srgbClr val="ff6600"/>
                </a:solidFill>
                <a:latin typeface="Century Gothic"/>
              </a:rPr>
              <a:t>ISP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entury Gothic"/>
              </a:rPr>
              <a:t> </a:t>
            </a:r>
            <a:r>
              <a:rPr b="1" lang="en-GB" sz="2400" spc="-1" strike="noStrike">
                <a:solidFill>
                  <a:srgbClr val="ff6600"/>
                </a:solidFill>
                <a:latin typeface="Century Gothic"/>
              </a:rPr>
              <a:t>Browser Softwa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entury Gothic"/>
              </a:rPr>
              <a:t> </a:t>
            </a:r>
            <a:r>
              <a:rPr b="1" lang="en-GB" sz="2400" spc="-1" strike="noStrike">
                <a:solidFill>
                  <a:srgbClr val="ff6600"/>
                </a:solidFill>
                <a:latin typeface="Century Gothic"/>
              </a:rPr>
              <a:t>Telecommunications line e.g. ISDN, ADS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entury Gothic"/>
              </a:rPr>
              <a:t> </a:t>
            </a:r>
            <a:r>
              <a:rPr b="1" lang="en-GB" sz="2400" spc="-1" strike="noStrike">
                <a:solidFill>
                  <a:srgbClr val="ff6600"/>
                </a:solidFill>
                <a:latin typeface="Century Gothic"/>
              </a:rPr>
              <a:t>Modem/Broadband Modem/ISDN adap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932360" y="1916280"/>
            <a:ext cx="4211640" cy="40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773360"/>
            <a:ext cx="4753080" cy="3774240"/>
          </a:xfrm>
          <a:prstGeom prst="rect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o connect up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ial up using ISP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odem converts signals from computer so it can travel along communications line to IS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ISP provides connection to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549360"/>
            <a:ext cx="828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nnecting to The Interne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08:41:56Z</dcterms:created>
  <dc:creator>cbelshaw438</dc:creator>
  <dc:description/>
  <dc:language>en-US</dc:language>
  <cp:lastModifiedBy>debs</cp:lastModifiedBy>
  <dcterms:modified xsi:type="dcterms:W3CDTF">2008-05-29T15:06:40Z</dcterms:modified>
  <cp:revision>13</cp:revision>
  <dc:subject/>
  <dc:title>Slide 1</dc:title>
</cp:coreProperties>
</file>